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6.gif" ContentType="image/gif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png" ContentType="image/pn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15.png" ContentType="image/png"/>
  <Override PartName="/ppt/media/image24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ABDC-CF97-4527-AD85-A2AE8CEE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1841-2FBB-46B8-AD8C-B9095B67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2F9D4-1B04-49C0-93E1-90CC8A8F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04CB3-E6A7-4930-85BA-17E8443B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44A8A-080A-4917-975A-D4C7CE4F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E67E6-048C-4827-B351-45773549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6E6FC-BEFE-4FB4-8EB1-035F3D3A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78DAF-D956-4775-B76B-241A0A8B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1409E-D327-4138-AC9F-23F0CDAA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A8C96-4258-4B4A-9984-02E670FE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1D2A7-698E-4B2A-918C-77358AA6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1D2FE-E9C4-41BF-9EA9-16DB4CF7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65BF-1DE4-478A-AFE8-C0A84E05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9E439-E4C0-4ACC-A955-3BF5213A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C0C43-4728-4B8C-9760-E17FAF68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4451D-116C-45FD-95CC-DD31CA99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2D2DF-3FDF-4AAD-BC3F-D2087417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790ED-5B9A-4F21-A3D8-E487A575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9C5FD-3A9B-41A6-BECF-4B0F34E4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21697-8253-47EC-86E0-060E5968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D6C36-BD06-460D-85C3-CB749517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F54A5-05EC-4106-B6AA-1E70F524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D9FB5-6E53-41C8-B994-6FD6E5DB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9BA0-BF88-4173-854C-A87A7002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41DF3-4C59-4B57-94B9-54211141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FB64D-1199-4061-9361-41FACF76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27B88-6BE6-4267-A785-77588F53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FB5D8-57FB-4F93-997E-C2F89B7E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A4158-ECBA-4793-A084-ADE74F05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B5811-B666-45F4-924A-5BEEBE1F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73589-4BA3-4B4C-A46A-B1D6BC66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80306-4702-49CC-B261-4F6D3F08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E73E2-4DF6-4447-8A9F-A1EAF4F0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64FC9-42EC-4211-A4CF-C8081B6C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A6C9-B2BD-4FC6-81C2-7BA9C3C6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34962-B3B0-43FA-8C44-53762E38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1530F-91A4-4871-9321-395DD725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26B4A-97D2-4E6C-8042-163BCDA0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C0E36-8C0C-4DFB-9C52-ACDF912D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FECFF-4E1E-4458-B3B7-5D4389F0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CEA49-A8DB-463E-AB81-CAA3DDFC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FDFF7-2809-4B9A-B034-8569547D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54719-4182-4F9B-A8BD-576ABF4F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B5F3C-1104-4983-87D8-E43D6E4E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7E3C2-D73E-4C5B-83E5-7F39FFBE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E1DA-418C-47AD-A4D1-2FC7B552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547EE-4B32-4B37-B14D-747C7DAA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A77E7-875B-4040-8B7E-E1213DE7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36250-A0BC-409B-A7DE-B9C2C392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03799-FF77-4483-A259-53CA4C4C3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AF6CB-19D0-4D4B-8FF3-B9F9EE75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A55322-F685-4070-A5F6-2D6DADF1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5C213E-DC6E-4DB7-9B58-67EA7A8F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ED59D-1FAE-447F-AD5D-CA23EA27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5E865C-8012-4F7C-AFCC-6B9B33B0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41DE7A-9AFF-4C81-B800-17156184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D59D-6B02-400E-9D8A-25E049F0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46D506-A9C3-4680-A586-D643D9B6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317CD6-9C94-4AB6-930A-FC96779A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F12C2D-9E37-4989-BC0B-FF9878F9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099872-FC3E-4002-A0E3-916F05A2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8461B6-9073-4972-9397-6F9A6963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10A93C-A456-4C26-8FEE-191CAE18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DAD424-8EF2-4E55-98AB-A4B43C6B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2E5C25-0B7E-4CB0-A50F-A2CBE8C6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0136FD-BE12-450B-BD24-8B86ED43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3E4E82-4ED4-40DC-99D5-865B5140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A5D2-3F16-43B3-B2FB-5031EDD6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5CB3AB-700F-413B-A0E4-407260D3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D40E8E-47E1-433B-A3E0-820CE694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963D10-411D-4D55-8437-B75ED3E2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EDAEB5-CD3E-4D98-B9E4-0FEDCBA8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17F165-5933-415C-95AC-F65F25B4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5C14D5-22B5-43B0-BAF2-82CBAC83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604A56-BA08-4F72-A568-CBA79A5B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481A53-38C7-443A-8716-F5362303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B68B81-2E57-43E9-9507-F9E30EC1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D798-ED42-4E2C-9253-8D78A87C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E5A1-A9B5-47C3-8376-8E28F42D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5CDF-2654-455E-92F9-E4B8415D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0246-DFCD-472A-987E-E80D622B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D467-A88B-4D38-94DC-BB26A5B3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F3DA-6465-4220-9A1F-89A59BD2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0478-5D0F-4798-A74B-264E669E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E775-055A-4589-AD3C-ED09A709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88F4-E9CB-4DF6-9467-9AF801FA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9EA75-3741-41A0-B1F1-39D718BF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9B1C1-5D2C-436A-8747-AB92A455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C3244-2E80-4FCB-AE31-93BA770F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249C4-8E7D-4F2A-AF8E-8929929D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02A1E-A5E4-414F-A8E7-E0E91FB9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374-EA34-4DA3-88B9-F948D848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F471A-C72D-4123-ABD9-0D337791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A6386-0132-4679-8398-2D1DF676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90EC6-42EB-423C-91BD-9FD6B89D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45FDB-05B4-40BA-9E7F-C9045381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82865-C967-4891-BC5C-638266AD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391F4-FC00-4986-AC72-ED8BB77F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64100-A6D4-42C4-A90D-CDED8B77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1BF23-A113-45D4-B557-921E68DF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5FB5C-CE55-44D0-B9AF-27FDE1DD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BF56E-89D8-4BEC-8814-484242E9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F2CE-2856-4EB6-B728-DAC5397D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34DC0-8552-43FF-9F19-4CB38F3D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6769C-1118-4E6C-91E1-4F3E6118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44D10-B47B-4599-85B5-05F3D015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E0E2D-5E1A-4873-BAF5-0C74DDB1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0221D-5A49-40BF-9496-244C0210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60598-7AEB-4794-A839-3A469BBC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DA22A-17F9-4F29-AB99-08F483DB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7131D-402B-4E15-B0DA-25C71A7C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3539F-483C-4FBE-AE3E-612BEF6F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E5473-C411-4ACC-8D5C-FAD7CBB2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129F-9607-4A53-B899-83C7455F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A35FA-C9E0-47F7-AC61-AA054845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1101B-3DE2-4E6B-8BD3-D7B00312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84B89-9034-4FA1-9176-21DFC21B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A6C75-EC3E-4D26-B7DB-023D8704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75107-3C95-4E3C-B667-F4E1A2DB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7F7EF-838B-4F83-8410-6B1B95F8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B10E1-E810-4575-A632-94D33D2A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097C1-F93F-4F2C-8303-ED33EEC7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7242D-1621-40B8-947C-440D899D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04DB8-6B95-4FA9-9EFD-EDDDD5EB1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68FC-3754-4216-BEB4-5E4D0DEF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27241-7433-46D0-8F6C-07C07948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63CFC-B8BF-4A94-AC99-E38BBC91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CD311-18F4-4210-A3F3-7CE8620C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A3AE8-EAD7-4A33-B5E5-D04FB8E8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6880B-3FAA-48B2-BADD-957165A1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E13FE-E8EC-4054-8B5E-9E2B9942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54792-AD4D-46DF-8A34-3253D73B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0E26C-BE83-4506-9557-D6726E6F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87C42-2D35-4FED-B298-D8CD5E6A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1C51A-53AD-45EF-AACE-071DF50D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F453-9B71-43A9-AA91-6F82BC2D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15251-C2F2-453D-8FAF-41638C3F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F13E3-7650-4875-BDEA-6B92EF27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E7FA8-7393-4EAB-A9AD-C619514A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DD01F-CF8B-4028-8937-ECE916A9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3D305-26B3-4A3A-9132-C55C4B5C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BE1B8-1E33-44FE-9D4E-B8453E2D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72C55-E4F4-423C-BA02-F4F30E6C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D95E6-792D-48F6-A6B7-0D8BB9C1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20941-A8EB-4490-A548-E93DB82F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0992E-EF33-4638-B458-E3044810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0BD4-6E43-4EEC-9A0D-D42EC1A0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347EF-53A1-45A9-9688-1EF751BE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B8424-34E4-4922-B2CD-3A17CEA0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7E5F7-74BE-4A14-AB22-2D895C97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60DFA-BF66-42F8-95E2-BEF368AA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FB27F-D820-46FE-B28F-4DC51510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55334-F407-4A73-BD0E-2A2E0717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F9D55-98B7-4F4A-90FC-535751D2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38081-93AB-4845-9012-EE779749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6C3EA-2981-44EB-B4B2-C63E78A4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E2769-23FF-430F-B51A-878A730E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E940-0489-4385-8E79-43F48A23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2F5F4-CB09-4023-A34D-C7173399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99FC7-5C8E-4BB1-BEDC-786DBB99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3D1B3-F932-40EC-A6DA-E7052B2D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886D3-45C6-4757-B636-70E8B4DD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FBA43-10A7-4340-B6AD-80D1E956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A7B01-AFE6-4289-BA59-A0319D68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46F25-6348-4359-A2A0-04FBC081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4C1DD-F14C-400C-A513-6EAE0FB0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C3317-3402-4F82-BA65-8EFB9670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6DF8F-BF07-4ED8-BA76-839244E7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63348D-45FC-4C1E-A659-D469D65257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2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33E904-CB79-4705-8B01-08F5886D5CD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8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5EBF25-B301-48D1-814C-9A0A9013F33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C3686D-4BD6-4FF9-BBDB-A8ECC949328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38AFD1-9C1B-4B87-BE94-8EC34A559C2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6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E95DB0-0393-4A6E-9F59-78F81F2F7B0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EA9F85-CAB1-49AE-ACA1-6C480F55E66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EFABC30-C372-4162-8C57-8E8FCDAB9EE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6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EFC7DC-7925-4647-8837-0AB237E6483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10424A-6348-449A-AF5D-71A8CE437DF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8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A9BA46-4D3C-4460-B5C2-9B1FC5453A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B93AAF-721B-4B93-9C21-770A36D5337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45C75B6-D7C1-4ED4-B958-46BF2E9A47E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6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33B231-5D06-4F02-9920-6F167A9F719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hyperlink" Target="http://images.yandex.ru/yandsearch?source=wiz&amp;fp=5&amp;img_url=http%3A%2F%2Fsad41.oskoluno.ru%2Fupload%2Fsad41%2Fgender%2Fleto.png&amp;uinfo=ww-1263-wh-930-fw-1038-fh-598-pd-1&amp;p=5&amp;text=&#1082;&#1072;&#1082;%20&#1085;&#1072;&#1088;&#1080;&#1089;&#1086;&#1074;&#1072;&#1090;&#1100;%20&#1088;&#1086;&#1089;&#1090;&#1086;&#1082;&amp;noreask=1&amp;pos=169&amp;rpt=simage&amp;lr=973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4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5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yandex.ru/yandsearch?source=wiz&amp;fp=0&amp;text=&#1082;&#1072;&#1088;&#1090;&#1080;&#1085;&#1082;&#1072;%20&#1084;&#1072;&#1083;&#1077;&#1085;&#1100;&#1082;&#1086;&#1075;&#1086;%20&#1087;&#1072;&#1089;&#1090;&#1091;&#1093;&#1072;&amp;noreask=1&amp;pos=23&amp;lr=973&amp;rpt=simage&amp;uinfo=ww-1263-wh-930-fw-1038-fh-598-pd-1&amp;img_url=http%3A%2F%2Fwww.hermitagemuseum.org%2Fimgs_Ru%2F03%2Fhm3_13_2_3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СТКИ НАШЕЙ  ДРУЖБ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40080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: 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квалификационной катег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Прогимназ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ова Елена Алекс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ргут 2013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4" descr="C:\Users\юля\Desktop\100KC182\100_1045.JPG"/>
          <p:cNvPicPr/>
          <p:nvPr/>
        </p:nvPicPr>
        <p:blipFill>
          <a:blip r:embed="rId2"/>
          <a:stretch/>
        </p:blipFill>
        <p:spPr>
          <a:xfrm>
            <a:off x="1352520" y="3573360"/>
            <a:ext cx="2465280" cy="18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ТО ТАКИЕ ДРУЗЬ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2" descr=""/>
          <p:cNvPicPr/>
          <p:nvPr/>
        </p:nvPicPr>
        <p:blipFill>
          <a:blip r:embed="rId2"/>
          <a:stretch/>
        </p:blipFill>
        <p:spPr>
          <a:xfrm>
            <a:off x="1692360" y="1341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56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РУ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Прямоугольник 1"/>
          <p:cNvSpPr/>
          <p:nvPr/>
        </p:nvSpPr>
        <p:spPr>
          <a:xfrm rot="19854000">
            <a:off x="557280" y="1377720"/>
            <a:ext cx="2592360" cy="7189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Прямоугольник 2"/>
          <p:cNvSpPr/>
          <p:nvPr/>
        </p:nvSpPr>
        <p:spPr>
          <a:xfrm rot="1197600">
            <a:off x="5435280" y="731520"/>
            <a:ext cx="3024000" cy="647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АН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Прямоугольник 3"/>
          <p:cNvSpPr/>
          <p:nvPr/>
        </p:nvSpPr>
        <p:spPr>
          <a:xfrm rot="20753400">
            <a:off x="658440" y="4508640"/>
            <a:ext cx="2905200" cy="65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ЁЖ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Прямоугольник 4"/>
          <p:cNvSpPr/>
          <p:nvPr/>
        </p:nvSpPr>
        <p:spPr>
          <a:xfrm>
            <a:off x="6300720" y="2708280"/>
            <a:ext cx="2452680" cy="5047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ЛИВ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Прямоугольник 5"/>
          <p:cNvSpPr/>
          <p:nvPr/>
        </p:nvSpPr>
        <p:spPr>
          <a:xfrm>
            <a:off x="4140360" y="3562200"/>
            <a:ext cx="2808000" cy="6732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Прямоугольник 6"/>
          <p:cNvSpPr/>
          <p:nvPr/>
        </p:nvSpPr>
        <p:spPr>
          <a:xfrm>
            <a:off x="3546360" y="1413000"/>
            <a:ext cx="2538360" cy="576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0" name="Picture 5" descr="C:\Users\юля\Desktop\100KC182\1 сентября\DSC02050.JPG"/>
          <p:cNvPicPr/>
          <p:nvPr/>
        </p:nvPicPr>
        <p:blipFill>
          <a:blip r:embed="rId2"/>
          <a:stretch/>
        </p:blipFill>
        <p:spPr>
          <a:xfrm>
            <a:off x="4815000" y="4290840"/>
            <a:ext cx="30351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вы представляете себе дружбу?</a:t>
            </a:r>
            <a:br>
              <a:rPr sz="4400"/>
            </a:b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делирование дружбы в классе с помощью человечк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Picture 3" descr=""/>
          <p:cNvPicPr/>
          <p:nvPr/>
        </p:nvPicPr>
        <p:blipFill>
          <a:blip r:embed="rId2"/>
          <a:stretch/>
        </p:blipFill>
        <p:spPr>
          <a:xfrm>
            <a:off x="5076720" y="3933720"/>
            <a:ext cx="3359160" cy="224172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4" descr=""/>
          <p:cNvPicPr/>
          <p:nvPr/>
        </p:nvPicPr>
        <p:blipFill>
          <a:blip r:embed="rId3"/>
          <a:stretch/>
        </p:blipFill>
        <p:spPr>
          <a:xfrm>
            <a:off x="2268360" y="3933720"/>
            <a:ext cx="2378160" cy="237816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6" descr="http://im7-tub-ru.yandex.net/i?id=77368525-36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1960" y="4076640"/>
            <a:ext cx="16560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816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 ПОНЯЛ, ДРУГ ЭТО ТОТ, КТО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2" descr="C:\Users\юля\Desktop\100KC182\фото от лены\100_1173.JPG"/>
          <p:cNvPicPr/>
          <p:nvPr/>
        </p:nvPicPr>
        <p:blipFill>
          <a:blip r:embed="rId2"/>
          <a:stretch/>
        </p:blipFill>
        <p:spPr>
          <a:xfrm>
            <a:off x="1103400" y="119700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3" descr="C:\Users\юля\Desktop\100KC182\фото от лены\100_1182.JPG"/>
          <p:cNvPicPr/>
          <p:nvPr/>
        </p:nvPicPr>
        <p:blipFill>
          <a:blip r:embed="rId3"/>
          <a:stretch/>
        </p:blipFill>
        <p:spPr>
          <a:xfrm>
            <a:off x="5867280" y="2278080"/>
            <a:ext cx="2770200" cy="207648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4" descr="C:\Users\юля\Desktop\100KC182\фото от лены\100_1184.JPG"/>
          <p:cNvPicPr/>
          <p:nvPr/>
        </p:nvPicPr>
        <p:blipFill>
          <a:blip r:embed="rId4"/>
          <a:stretch/>
        </p:blipFill>
        <p:spPr>
          <a:xfrm>
            <a:off x="6446880" y="4651200"/>
            <a:ext cx="1985760" cy="148932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5" descr="C:\Users\юля\Desktop\100KC182\1 сентября\DSC02034.JPG"/>
          <p:cNvPicPr/>
          <p:nvPr/>
        </p:nvPicPr>
        <p:blipFill>
          <a:blip r:embed="rId5"/>
          <a:stretch/>
        </p:blipFill>
        <p:spPr>
          <a:xfrm>
            <a:off x="900000" y="3589200"/>
            <a:ext cx="2855880" cy="214164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6" descr="C:\Users\юля\Desktop\100KC182\1 сентября\DSC02044.JPG"/>
          <p:cNvPicPr/>
          <p:nvPr/>
        </p:nvPicPr>
        <p:blipFill>
          <a:blip r:embed="rId6"/>
          <a:stretch/>
        </p:blipFill>
        <p:spPr>
          <a:xfrm>
            <a:off x="4106880" y="4365720"/>
            <a:ext cx="1544760" cy="206064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7" descr="C:\Users\юля\Desktop\100KC182\1 сентября\DSC02052.JPG"/>
          <p:cNvPicPr/>
          <p:nvPr/>
        </p:nvPicPr>
        <p:blipFill>
          <a:blip r:embed="rId7"/>
          <a:stretch/>
        </p:blipFill>
        <p:spPr>
          <a:xfrm>
            <a:off x="3755880" y="1865160"/>
            <a:ext cx="19796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Picture 2" descr="C:\Users\юля\Desktop\5 декабря ростки нашей дружбы\derevja_iz_listikov_3.jpg"/>
          <p:cNvPicPr/>
          <p:nvPr/>
        </p:nvPicPr>
        <p:blipFill>
          <a:blip r:embed="rId2"/>
          <a:stretch/>
        </p:blipFill>
        <p:spPr>
          <a:xfrm>
            <a:off x="2987640" y="1700280"/>
            <a:ext cx="3168720" cy="441648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4" descr="http://www.kupirebenku.ru/upload/resize_cache/iblock/9c3/100_100_1/8858782106388-e2y.JPG"/>
          <p:cNvPicPr/>
          <p:nvPr/>
        </p:nvPicPr>
        <p:blipFill>
          <a:blip r:embed="rId3"/>
          <a:stretch/>
        </p:blipFill>
        <p:spPr>
          <a:xfrm rot="16994400">
            <a:off x="1331640" y="2707920"/>
            <a:ext cx="952560" cy="92412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6" descr="http://www.kupirebenku.ru/upload/resize_cache/iblock/9c3/100_100_1/8858782106388-e2y.JPG"/>
          <p:cNvPicPr/>
          <p:nvPr/>
        </p:nvPicPr>
        <p:blipFill>
          <a:blip r:embed="rId4"/>
          <a:stretch/>
        </p:blipFill>
        <p:spPr>
          <a:xfrm rot="17947800">
            <a:off x="1187640" y="1341000"/>
            <a:ext cx="952200" cy="92412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8" descr="http://www.kupirebenku.ru/upload/resize_cache/iblock/9c3/100_100_1/8858782106388-e2y.JPG"/>
          <p:cNvPicPr/>
          <p:nvPr/>
        </p:nvPicPr>
        <p:blipFill>
          <a:blip r:embed="rId5"/>
          <a:stretch/>
        </p:blipFill>
        <p:spPr>
          <a:xfrm rot="3345600">
            <a:off x="1829880" y="3908160"/>
            <a:ext cx="952560" cy="92412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10" descr="http://www.kupirebenku.ru/upload/resize_cache/iblock/9c3/100_100_1/8858782106388-e2y.JPG"/>
          <p:cNvPicPr/>
          <p:nvPr/>
        </p:nvPicPr>
        <p:blipFill>
          <a:blip r:embed="rId6"/>
          <a:stretch/>
        </p:blipFill>
        <p:spPr>
          <a:xfrm rot="18817200">
            <a:off x="552600" y="4100040"/>
            <a:ext cx="952200" cy="92412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12" descr="http://www.kupirebenku.ru/upload/resize_cache/iblock/9c3/100_100_1/8858782106388-e2y.JPG"/>
          <p:cNvPicPr/>
          <p:nvPr/>
        </p:nvPicPr>
        <p:blipFill>
          <a:blip r:embed="rId7"/>
          <a:stretch/>
        </p:blipFill>
        <p:spPr>
          <a:xfrm rot="2427000">
            <a:off x="1677960" y="5222520"/>
            <a:ext cx="952560" cy="92376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14" descr="http://900igr.net/thumb/istorija/5-Paskha.files/0008-021-Paskha-eto-ozhidanie-vesny.jpg"/>
          <p:cNvPicPr/>
          <p:nvPr/>
        </p:nvPicPr>
        <p:blipFill>
          <a:blip r:embed="rId8"/>
          <a:stretch/>
        </p:blipFill>
        <p:spPr>
          <a:xfrm rot="6354600">
            <a:off x="6557760" y="1460160"/>
            <a:ext cx="1150920" cy="154152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16" descr="http://900igr.net/thumb/istorija/5-Paskha.files/0008-021-Paskha-eto-ozhidanie-vesny.jpg"/>
          <p:cNvPicPr/>
          <p:nvPr/>
        </p:nvPicPr>
        <p:blipFill>
          <a:blip r:embed="rId9"/>
          <a:stretch/>
        </p:blipFill>
        <p:spPr>
          <a:xfrm rot="19894800">
            <a:off x="7170480" y="3176280"/>
            <a:ext cx="1137960" cy="152244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18" descr="http://900igr.net/thumb/istorija/5-Paskha.files/0008-021-Paskha-eto-ozhidanie-vesny.jpg"/>
          <p:cNvPicPr/>
          <p:nvPr/>
        </p:nvPicPr>
        <p:blipFill>
          <a:blip r:embed="rId10"/>
          <a:stretch/>
        </p:blipFill>
        <p:spPr>
          <a:xfrm rot="1331400">
            <a:off x="6690960" y="5001840"/>
            <a:ext cx="88596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ИТУАЛ ПРОЩ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899640" y="1600200"/>
            <a:ext cx="7559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ctr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бята, давайте  друг с другом дружи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дь имея друга верного хорошо на свете жи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Picture 2" descr="H:\Оформление\КАРТИНКИ-БЛЕсТЯШКИ\ОТКРЫТКИ _ АНИМЕ\ed3e543ba72f.gif"/>
          <p:cNvPicPr/>
          <p:nvPr/>
        </p:nvPicPr>
        <p:blipFill>
          <a:blip r:embed="rId1"/>
          <a:stretch/>
        </p:blipFill>
        <p:spPr>
          <a:xfrm>
            <a:off x="-252360" y="-476280"/>
            <a:ext cx="9534600" cy="76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Прямоугольник 3"/>
          <p:cNvSpPr/>
          <p:nvPr/>
        </p:nvSpPr>
        <p:spPr>
          <a:xfrm>
            <a:off x="2286000" y="-1603440"/>
            <a:ext cx="5381640" cy="70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Дереклеева Н.И., Савченко М.Ю., Артюхова И.С. Справочник классно-го руководителя/ Под ред. И.С.Артюховой. – М.: ВАКО, 2005.- 256с.- (Педагогика. Психология. Управление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 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Классные часы  (беседы, устный журнал, уроки мужества, ток-шоу). Авт.-сост. С.В.Шевченко и др. – Волгоград: Учитель,2003. –70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 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Творческий опыт работы с книгой: библиотечные уроки, читатель-ские часы, внеклассные занятия /сост. Т.Р. Цымбалюк. – Волго-град: Учитель, 2010. – 135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Картин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http://oboi.fatal.ru/bears/wallpaper_14.html-круг  рад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http://www.plastikpanel.ru/category34.html-  вете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http://www.myjulia.ru/post/126470/- пастуш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http://www.prikol.ru/2008/11/01/snezhinki-pod-mikroskopom/-оберег друж-б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http://demiart.ru/forum/journal.php?list=alltags&amp;tag=креатив&amp;st=405-  де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http://www.newsland.ru/index/tag/id/12813/ord/6/page/1/-  ромаш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7" name="Picture 2" descr=""/>
          <p:cNvPicPr/>
          <p:nvPr/>
        </p:nvPicPr>
        <p:blipFill>
          <a:blip r:embed="rId2"/>
          <a:stretch/>
        </p:blipFill>
        <p:spPr>
          <a:xfrm>
            <a:off x="468360" y="1328760"/>
            <a:ext cx="1735200" cy="1069920"/>
          </a:xfrm>
          <a:prstGeom prst="rect">
            <a:avLst/>
          </a:prstGeom>
          <a:ln w="0">
            <a:noFill/>
          </a:ln>
        </p:spPr>
      </p:pic>
      <p:sp>
        <p:nvSpPr>
          <p:cNvPr id="888" name="TextBox 4"/>
          <p:cNvSpPr/>
          <p:nvPr/>
        </p:nvSpPr>
        <p:spPr>
          <a:xfrm>
            <a:off x="2817000" y="5732640"/>
            <a:ext cx="46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айт: «Школа АБВ»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 http://shkola-abv.ru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27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 формировать у учащихся представления о дружбе, как о важнейшей нравственной ц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457200" y="2133720"/>
            <a:ext cx="822816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формировать навыки конструктивного поведения в дружеских отношен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развивать внутренний интонационный слух, коммуникативные способности, ассоциативное мыш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способствовать развитию дружеских отношений в классном коллектив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оспитывать чувство  коллективизма, толерантного отношения друг к друг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пособствовать развитию эмоциональной сферы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816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Формируемые УУД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95280" y="1600200"/>
            <a:ext cx="8290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навательные УУД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рабатывать полученную информацию: делать выводы в результате совместной работы всего класс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ознавать познавательную задач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тать и слушать, извлекая нужную информацию, а также самостоятельно находить её в материалах зада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анавливать причинно-следственные связи, делать обобщения,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гулятивные УУД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ть работать по предложенным инструкци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ть излагать мысли в четкой логической последовательности, отстаивать свою точку зрения, анализировать ситуацию и самостоятельно находить ответы на вопросы путем логических рассужд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ять и формулировать цель деятельности на занятии с помощью учител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муникативные УУД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ть работать в паре и в коллективе; уметь рассказывать о своих результат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ть работать над проектом в команде, эффективно распределять обязан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Ритуал приветств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457200" y="1052280"/>
            <a:ext cx="82281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Круг радост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Здравствуй, друг, вот и я! Мы - хорошие друзь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2" descr=""/>
          <p:cNvPicPr/>
          <p:nvPr/>
        </p:nvPicPr>
        <p:blipFill>
          <a:blip r:embed="rId2"/>
          <a:stretch/>
        </p:blipFill>
        <p:spPr>
          <a:xfrm>
            <a:off x="5148360" y="2781360"/>
            <a:ext cx="3276360" cy="355752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5" descr="C:\Users\юля\Desktop\100KC182\100_1139.JPG"/>
          <p:cNvPicPr/>
          <p:nvPr/>
        </p:nvPicPr>
        <p:blipFill>
          <a:blip r:embed="rId3"/>
          <a:stretch/>
        </p:blipFill>
        <p:spPr>
          <a:xfrm>
            <a:off x="1187280" y="3357720"/>
            <a:ext cx="280836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81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Упражнение — энергизатор «Ветер дует на...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етер дует на...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...на тех у кто носит брюки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..кто любит сладкое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.. у кого косички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..у кого есть друзь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2" descr=""/>
          <p:cNvPicPr/>
          <p:nvPr/>
        </p:nvPicPr>
        <p:blipFill>
          <a:blip r:embed="rId2"/>
          <a:stretch/>
        </p:blipFill>
        <p:spPr>
          <a:xfrm>
            <a:off x="5076720" y="2781360"/>
            <a:ext cx="320688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тч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684360" y="1267920"/>
            <a:ext cx="792000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соко-высоко в горах жил пастух. Однажды в ненастную ночь к нему постучали тр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ижина у меня маленькая, войдет только один. А кто вы? – спросил пасту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– дружба, счастье и богатство. Кому открыть дверь – выбирай са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стух выбрал дружбу. Вошла дружба, пришло счастье, появилось и богат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5" descr="http://www.antique-salon.ru/forum/uploads/monthly_04_2013/post-9411-136692466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00720" y="3357720"/>
            <a:ext cx="2232000" cy="2974680"/>
          </a:xfrm>
          <a:prstGeom prst="rect">
            <a:avLst/>
          </a:prstGeom>
          <a:ln w="0">
            <a:noFill/>
          </a:ln>
        </p:spPr>
      </p:pic>
      <p:sp>
        <p:nvSpPr>
          <p:cNvPr id="838" name="Пятно 1 1"/>
          <p:cNvSpPr/>
          <p:nvPr/>
        </p:nvSpPr>
        <p:spPr>
          <a:xfrm>
            <a:off x="539640" y="3573360"/>
            <a:ext cx="2592360" cy="1778040"/>
          </a:xfrm>
          <a:prstGeom prst="irregularSeal1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АСТ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Пятно 1 2"/>
          <p:cNvSpPr/>
          <p:nvPr/>
        </p:nvSpPr>
        <p:spPr>
          <a:xfrm>
            <a:off x="3348000" y="4989600"/>
            <a:ext cx="2664000" cy="1342800"/>
          </a:xfrm>
          <a:prstGeom prst="irregularSeal1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РУЖ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Пятно 1 3"/>
          <p:cNvSpPr/>
          <p:nvPr/>
        </p:nvSpPr>
        <p:spPr>
          <a:xfrm>
            <a:off x="3276720" y="3357720"/>
            <a:ext cx="2950920" cy="1631880"/>
          </a:xfrm>
          <a:prstGeom prst="irregularSeal1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ГАТ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362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НИКАКОЕ ОБЩЕНИЕ МЕЖДУ ЛЮДЬМИ НЕВОЗМОЖНО БЕЗ ДРУЖБЫ».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КР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4" descr="Против астрологов"/>
          <p:cNvPicPr/>
          <p:nvPr/>
        </p:nvPicPr>
        <p:blipFill>
          <a:blip r:embed="rId2"/>
          <a:stretch/>
        </p:blipFill>
        <p:spPr>
          <a:xfrm>
            <a:off x="5580000" y="2768760"/>
            <a:ext cx="239868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гадай пословиц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УГА ИМЕТЬ- СЕБЯ НЕ ЖАЛ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УЖБА КАК СТЕКЛ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ОБЬЁШЬ- НЕ СЛОЖИ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2" descr=""/>
          <p:cNvPicPr/>
          <p:nvPr/>
        </p:nvPicPr>
        <p:blipFill>
          <a:blip r:embed="rId2"/>
          <a:stretch/>
        </p:blipFill>
        <p:spPr>
          <a:xfrm>
            <a:off x="5435640" y="3500280"/>
            <a:ext cx="2886120" cy="288468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3" descr=""/>
          <p:cNvPicPr/>
          <p:nvPr/>
        </p:nvPicPr>
        <p:blipFill>
          <a:blip r:embed="rId3"/>
          <a:stretch/>
        </p:blipFill>
        <p:spPr>
          <a:xfrm>
            <a:off x="2050920" y="3500280"/>
            <a:ext cx="27320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ружба:</a:t>
            </a:r>
            <a:r>
              <a:rPr b="1" lang="ru-RU" sz="6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457200" y="1413000"/>
            <a:ext cx="38275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50000"/>
              <a:buFont typeface="Webdings" charset="2"/>
              <a:buChar char="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лизкие отнош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анные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на взаимном доверии, преда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4427280" y="1600200"/>
            <a:ext cx="4392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150000"/>
              <a:buFont typeface="Webdings" charset="2"/>
              <a:buChar char="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лавное чудо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о открытий для всех настоящ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любая беда – не беда,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рядом друзья настоящ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5" descr="кот леопольд"/>
          <p:cNvPicPr/>
          <p:nvPr/>
        </p:nvPicPr>
        <p:blipFill>
          <a:blip r:embed="rId2"/>
          <a:stretch/>
        </p:blipFill>
        <p:spPr>
          <a:xfrm>
            <a:off x="3419640" y="4292640"/>
            <a:ext cx="13428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06:45Z</dcterms:created>
  <dc:creator>Елена Берюхова</dc:creator>
  <dc:description/>
  <dc:language>en-US</dc:language>
  <cp:lastModifiedBy>Борис</cp:lastModifiedBy>
  <dcterms:modified xsi:type="dcterms:W3CDTF">2013-12-13T13:57:16Z</dcterms:modified>
  <cp:revision>25</cp:revision>
  <dc:subject/>
  <dc:title>Слайд 1</dc:title>
</cp:coreProperties>
</file>